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C16-85FF-454C-A5A6-891F9044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362-8E29-4F61-879C-1F4C5172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842-1560-471C-925C-D9DD5608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890-1342-4EBA-8AE7-6489925D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09A-52D9-45F4-9932-DAA965BA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54A-F9EC-4056-830F-EFEA1692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F42-3A4E-47D7-AE64-7C77E032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4E0-035A-4293-B383-0D5221F0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71C-0B37-4B47-AE9E-454E4E2E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249-281A-4081-B4CA-3AE51CA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674-3340-4B3D-82E7-41BA7396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5B3-A491-403C-95D6-061D651F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4C31A-2E00-4464-9A06-ED97871B57A1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Toiminnalliset rajoitt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233000"/>
            <a:ext cx="9070920" cy="545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Näön rajoitt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Motoriikan rajoitt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Kuulon rajoitt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Kognitiivisen toiminnan rajoitt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4400" spc="-1" strike="noStrike">
                <a:solidFill>
                  <a:srgbClr val="000000"/>
                </a:solidFill>
                <a:latin typeface="Arial"/>
              </a:rPr>
              <a:t>- Kaikki edellä mainitut liittyvät myös ikääntymiseen: Suuri käyttäjäryhmä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872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Perustarkistuks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944360"/>
            <a:ext cx="907092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Kognitiiviset rajoitteet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aikki käyttävät: Myös dementikot, kehitysvammaiset, lapse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äyttäjät eivät ole tyhmiä tai vääränlaisia. Kehittäjät voivat oll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Lopuks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4360" y="-179280"/>
            <a:ext cx="9070920" cy="925200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lä tee itsellesi: tee käyttäjäl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lä tee keskivertokäyttäjälle: tee rajoitteista kärsivälle käyttäjälle. 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Älä tee sellaista minkä käyttäjä voi oppia. Tee sellaista minkä käyttäjä </a:t>
            </a:r>
            <a:r>
              <a:rPr b="0" i="1" lang="fi-FI" sz="4000" spc="-1" strike="noStrike">
                <a:solidFill>
                  <a:srgbClr val="000000"/>
                </a:solidFill>
                <a:latin typeface="Arial"/>
              </a:rPr>
              <a:t>haluaa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opp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Lopuks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4360" y="158400"/>
            <a:ext cx="9070920" cy="857412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ekemällä rajoitteista kärsivälle, teet myös tavanomaiselle käyttäjälle miellyttävän käyttöliittymä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uista käyttäjän mentaaliset mallit. Ne voivat olla erilaiset kuin omas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Tehtäv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844280"/>
            <a:ext cx="9070920" cy="805500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utki html-dokumentt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1: Käytä ilman hiirtä: toimiiko kaikk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2: Käytä ilman kuvia: häviääkö tieto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3: Katso mustavalkeana: onko teksti luettava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4: Tutustu käyttöjärjestelmän helppokäyttöasetuksiin. Kytke ruudunlukija päälle, sammuta monitori ja käytä sivu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Näön rajoitt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563480"/>
            <a:ext cx="9070920" cy="53989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Heikko näkökyky eri muodoiss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(Heikko näkö, putkinäkö, häikäistyminen, hämäräsokeus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i-FI" sz="4400" spc="-1" strike="noStrike">
                <a:solidFill>
                  <a:srgbClr val="cc0066"/>
                </a:solidFill>
                <a:latin typeface="Arial"/>
              </a:rPr>
              <a:t>Värinäön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ongelmat esimerkiks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4400" spc="-1" strike="noStrike">
                <a:solidFill>
                  <a:srgbClr val="000000"/>
                </a:solidFill>
                <a:latin typeface="Arial"/>
              </a:rPr>
              <a:t>Periaate: eri aistit korvaavat toisi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Näön rajoitt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44756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Heikko näkökyky eri muodoiss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(Heikko näkö, putkinäkö, häikäistyminen, hämäräsokeus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i-FI" sz="4400" spc="-1" strike="noStrike">
                <a:solidFill>
                  <a:srgbClr val="808080"/>
                </a:solidFill>
                <a:latin typeface="Arial"/>
              </a:rPr>
              <a:t>Värinäön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ongelmat esimerkiks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4400" spc="-1" strike="noStrike">
                <a:solidFill>
                  <a:srgbClr val="000000"/>
                </a:solidFill>
                <a:latin typeface="Arial"/>
              </a:rPr>
              <a:t>Periaate: eri aistit korvaavat toisi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Perustarkistuks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-294120"/>
            <a:ext cx="9070920" cy="851076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Heikko näkökyky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Tarkista käyttöliittymän skaalautumin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Ei tavoitella ulkonäön täydellisyyttä, vaan </a:t>
            </a:r>
            <a:r>
              <a:rPr b="0" i="1" lang="fi-FI" sz="4000" spc="-1" strike="noStrike">
                <a:solidFill>
                  <a:srgbClr val="000000"/>
                </a:solidFill>
                <a:latin typeface="Arial"/>
              </a:rPr>
              <a:t>tiedon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täydellisyyttä ja </a:t>
            </a:r>
            <a:r>
              <a:rPr b="0" i="1" lang="fi-FI" sz="4000" spc="-1" strike="noStrike">
                <a:solidFill>
                  <a:srgbClr val="000000"/>
                </a:solidFill>
                <a:latin typeface="Arial"/>
              </a:rPr>
              <a:t>käytettävyyden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säilymistä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4800" spc="-1" strike="noStrike">
                <a:solidFill>
                  <a:srgbClr val="000000"/>
                </a:solidFill>
                <a:latin typeface="Arial"/>
              </a:rPr>
              <a:t>Periaate heikkonäköisiä varte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023840"/>
            <a:ext cx="9070920" cy="732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fi-FI" sz="3600" spc="-1" strike="noStrike">
                <a:solidFill>
                  <a:srgbClr val="000000"/>
                </a:solidFill>
                <a:latin typeface="Arial"/>
              </a:rPr>
              <a:t>Kaikki 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informaatio on esitettävä myös tekstin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- Myös videot ja audiotallenteet on esitettävä vaihtoehtoisesti tekstinä, kuvat alt-teksteillä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-Käyttöliittymä ei saa edellyttää esimerkiksi animaation näkemistä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atso ilman kuvia: häviääkö tieto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erustarkistuksi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4360" y="576000"/>
            <a:ext cx="9070920" cy="828180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Html: Alt-määreet ovat tärkeitä myös ruudunlukuohjelmille ja hakukoneil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uvat jotka ovat vain turhia koristeita on varustettava tyhjillä alt-määreillä ruudunlukijaa vart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1640" y="301680"/>
            <a:ext cx="1944720" cy="1388880"/>
          </a:xfrm>
          <a:prstGeom prst="rect">
            <a:avLst/>
          </a:prstGeom>
          <a:solidFill>
            <a:srgbClr val="729fc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Photo of blind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sing screen read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1640" y="5184720"/>
            <a:ext cx="3024000" cy="1440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Im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000000"/>
                </a:solidFill>
                <a:latin typeface="Arial"/>
              </a:rPr>
              <a:t>Perustarkistuks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31640" y="-360720"/>
            <a:ext cx="9071280" cy="964404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Värisokeus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Eri muotoja, esimerkiksi puna-vihersokeus ja täydellinen värisoke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atso sivua tai käyttöliittymää mustavalkeana. Häviääkö tieto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Mielellään käyttäjätestaus ainakin puna-vihersokealla testaaja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0560" y="72216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Perustarkistuks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2066760"/>
            <a:ext cx="9070920" cy="664560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Motoriikan rajoitteet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äytä ilman hiirtä: toimiiko kaikk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äytä hiirtä jalalla. Onnistuuk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html: tabi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0560" y="72216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Perustarkistuks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4360" y="2211120"/>
            <a:ext cx="9070920" cy="664524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Kuulon rajoitteet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äyttöliittymä ei saa vaatia äänten kuulemista (puhelimeen vastaaminen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aikki audiolla esitetty tieto on esitettävä myös tekstinä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05:20:07Z</dcterms:created>
  <dc:creator/>
  <dc:description/>
  <dc:language>en-US</dc:language>
  <cp:lastModifiedBy/>
  <dcterms:modified xsi:type="dcterms:W3CDTF">2018-05-21T09:06:51Z</dcterms:modified>
  <cp:revision>7</cp:revision>
  <dc:subject/>
  <dc:title/>
</cp:coreProperties>
</file>